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167-9EE2-430C-B275-46716E32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607-B1AE-4D7E-844E-5EC26019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022-4C04-4E23-855D-AC86833D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32D-39A5-40F1-AFE0-60A30CFF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0A7-32D1-4A1A-A0AE-BA357D75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473-F504-421C-AC15-E914A83E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EED-B9FA-4254-AE95-8985EDF1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9D8-C230-4A52-8531-3EEA347F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3A8-7190-4E33-BCC0-63D7E3DB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C3E-9621-4913-8E81-F51C522C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C4B-68D3-491F-82B4-7A57E2FA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BB3-50C1-49B5-AF25-ADDBD2D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13CA-F11F-4470-9E6E-D57B47BCB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ing or Burs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ging Role of the School Psych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NYASP full logo"/>
          <p:cNvPicPr/>
          <p:nvPr/>
        </p:nvPicPr>
        <p:blipFill>
          <a:blip r:embed="rId1"/>
          <a:stretch/>
        </p:blipFill>
        <p:spPr>
          <a:xfrm>
            <a:off x="1752480" y="380880"/>
            <a:ext cx="5359680" cy="1968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828800" y="49528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eter Faustino, NYASP 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 practice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provide consistency and define our own role in sch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at the local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867280" y="3809880"/>
            <a:ext cx="28958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censure B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support from allied associ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verwhelming need to increase access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school psyc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YASP at work for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…discussion at Board of Regents on limiting the use of IEP Diplo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week…2011 state conference in Syrac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our Quarterly Board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nese Phras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os Yields Her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your role with professional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your niche, be seen as valuable and then advocate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a professional association to accomplish thes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onsider the most pressing topics in the fi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Changing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Content Placeholder 3076"/>
          <p:cNvGrpSpPr/>
          <p:nvPr/>
        </p:nvGrpSpPr>
        <p:grpSpPr>
          <a:xfrm>
            <a:off x="2703960" y="2185560"/>
            <a:ext cx="3889800" cy="3011040"/>
            <a:chOff x="2703960" y="2185560"/>
            <a:chExt cx="3889800" cy="3011040"/>
          </a:xfrm>
        </p:grpSpPr>
        <p:sp>
          <p:nvSpPr>
            <p:cNvPr id="49" name="_s1028"/>
            <p:cNvSpPr/>
            <p:nvPr/>
          </p:nvSpPr>
          <p:spPr>
            <a:xfrm flipH="1" flipV="1">
              <a:off x="3689280" y="3557160"/>
              <a:ext cx="481680" cy="125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29"/>
            <p:cNvSpPr/>
            <p:nvPr/>
          </p:nvSpPr>
          <p:spPr>
            <a:xfrm>
              <a:off x="2703960" y="3025080"/>
              <a:ext cx="1009440" cy="810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D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0"/>
            <p:cNvSpPr/>
            <p:nvPr/>
          </p:nvSpPr>
          <p:spPr>
            <a:xfrm flipH="1">
              <a:off x="4055400" y="4132440"/>
              <a:ext cx="298440" cy="329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1"/>
            <p:cNvSpPr/>
            <p:nvPr/>
          </p:nvSpPr>
          <p:spPr>
            <a:xfrm>
              <a:off x="3254040" y="4385880"/>
              <a:ext cx="1009440" cy="8107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chool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ima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2"/>
            <p:cNvSpPr/>
            <p:nvPr/>
          </p:nvSpPr>
          <p:spPr>
            <a:xfrm>
              <a:off x="4943880" y="4132440"/>
              <a:ext cx="297720" cy="329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5034600" y="4385880"/>
              <a:ext cx="1009080" cy="8107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ponse 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terven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 flipV="1">
              <a:off x="5125320" y="3555000"/>
              <a:ext cx="483120" cy="125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5"/>
            <p:cNvSpPr/>
            <p:nvPr/>
          </p:nvSpPr>
          <p:spPr>
            <a:xfrm>
              <a:off x="5584680" y="3026520"/>
              <a:ext cx="1009080" cy="8110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-referr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 flipV="1">
              <a:off x="4647960" y="2994480"/>
              <a:ext cx="0" cy="407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7"/>
            <p:cNvSpPr/>
            <p:nvPr/>
          </p:nvSpPr>
          <p:spPr>
            <a:xfrm>
              <a:off x="4144680" y="2185560"/>
              <a:ext cx="1009080" cy="8107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est &amp; Pla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8"/>
            <p:cNvSpPr/>
            <p:nvPr/>
          </p:nvSpPr>
          <p:spPr>
            <a:xfrm>
              <a:off x="4144680" y="3402720"/>
              <a:ext cx="1009080" cy="8107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The School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Psychologis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Diagram 20"/>
          <p:cNvGrpSpPr/>
          <p:nvPr/>
        </p:nvGrpSpPr>
        <p:grpSpPr>
          <a:xfrm>
            <a:off x="1060200" y="906120"/>
            <a:ext cx="7027920" cy="4775400"/>
            <a:chOff x="1060200" y="906120"/>
            <a:chExt cx="7027920" cy="4775400"/>
          </a:xfrm>
        </p:grpSpPr>
        <p:sp>
          <p:nvSpPr>
            <p:cNvPr id="61" name="_s1041"/>
            <p:cNvSpPr/>
            <p:nvPr/>
          </p:nvSpPr>
          <p:spPr>
            <a:xfrm>
              <a:off x="2062080" y="1369440"/>
              <a:ext cx="5021640" cy="2611800"/>
            </a:xfrm>
            <a:custGeom>
              <a:avLst/>
              <a:gdLst>
                <a:gd name="textAreaLeft" fmla="*/ 0 w 5021640"/>
                <a:gd name="textAreaRight" fmla="*/ 5022000 w 5021640"/>
                <a:gd name="textAreaTop" fmla="*/ 0 h 2611800"/>
                <a:gd name="textAreaBottom" fmla="*/ 2612160 h 261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42"/>
            <p:cNvSpPr/>
            <p:nvPr/>
          </p:nvSpPr>
          <p:spPr>
            <a:xfrm rot="7200000">
              <a:off x="3954600" y="781200"/>
              <a:ext cx="2611440" cy="502236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5022360"/>
                <a:gd name="textAreaBottom" fmla="*/ 5022720 h 50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43"/>
            <p:cNvSpPr/>
            <p:nvPr/>
          </p:nvSpPr>
          <p:spPr>
            <a:xfrm rot="14400000">
              <a:off x="2581200" y="784080"/>
              <a:ext cx="2611800" cy="5021640"/>
            </a:xfrm>
            <a:custGeom>
              <a:avLst/>
              <a:gdLst>
                <a:gd name="textAreaLeft" fmla="*/ 0 w 2611800"/>
                <a:gd name="textAreaRight" fmla="*/ 2612160 w 2611800"/>
                <a:gd name="textAreaTop" fmla="*/ 0 h 5021640"/>
                <a:gd name="textAreaBottom" fmla="*/ 5022000 h 502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44"/>
            <p:cNvSpPr/>
            <p:nvPr/>
          </p:nvSpPr>
          <p:spPr>
            <a:xfrm>
              <a:off x="5947920" y="1848240"/>
              <a:ext cx="201564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45"/>
            <p:cNvSpPr/>
            <p:nvPr/>
          </p:nvSpPr>
          <p:spPr>
            <a:xfrm>
              <a:off x="3565080" y="3994200"/>
              <a:ext cx="201564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6"/>
            <p:cNvSpPr/>
            <p:nvPr/>
          </p:nvSpPr>
          <p:spPr>
            <a:xfrm>
              <a:off x="1181880" y="1848240"/>
              <a:ext cx="201564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date Rel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by the Bd. Of Regents to relieve burden on schools from man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preced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pouring of support for School Psycholog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ws is good ne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to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er am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eenings, Assessments, &amp; Progress Moni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BA, BIP and use of Time Out Roo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LD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RtI in determination of 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portunity for an altern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egon alternative to LD and their collaboration with N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L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ng the Whole Child, Engaging the Whole School: Guidelines and Resources for Social and Emotional Development and Learning (SEDL) in New York State” on July 18, 201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s in the making through NYASP’s eff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ment of the value of SEDL and its impact on student achie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Dignity”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School Cl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 to advance the expertise of School Psycholog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apply to PPS (aka School Psychologis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w trend in teacher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mple plan for N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9:40:24Z</dcterms:created>
  <dc:creator>tscadmin</dc:creator>
  <dc:description/>
  <dc:language>en-US</dc:language>
  <cp:lastModifiedBy>Allen, Lynn</cp:lastModifiedBy>
  <dcterms:modified xsi:type="dcterms:W3CDTF">2011-10-20T21:56:20Z</dcterms:modified>
  <cp:revision>8</cp:revision>
  <dc:subject/>
  <dc:title>Expanding or Bursting?</dc:title>
</cp:coreProperties>
</file>